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9AF9-F27F-4149-BD41-3AC44A85B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wa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n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lecting tools and computational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ets 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questions to the appropriate big ideas from either Marian or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ed questions they have to defend to the whol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880-2897-4331-B167-E2FAEFDC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42F-209D-4DA7-B838-769A3FDC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A7F-F300-4D4D-973C-DC7D2652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7FB-12A7-4C04-A568-47F85B2B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862-CE95-4D0B-8F0D-CA8B1196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39F6-DFE6-45DD-AAD2-3357106F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21D1-6D78-40DA-BF67-334AD74A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E53A-26D0-489D-B4C7-9D1FED9E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1F7A-161A-4BCF-A30D-821324C4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9D16-F6B0-4D0C-B007-115FA54C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68AA-568B-4A75-BA41-4E46840F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D27-F5DC-4C21-B53F-5CAC4702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395A-DEBF-44D7-8EFB-9CD46B3D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1D35-323A-4541-9F3F-A552BDE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90D1-736A-4A20-9629-2E0C3EFE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F255-31C3-4110-AAE9-2457390C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C8B0-17F9-443A-8C97-1B67D11D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392-8C98-4CA2-8EB9-F9DA4E3C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0D9-828E-46FF-A742-7D342D55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7E7-6096-49AA-80EC-0CB74F81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681-1E2A-45E4-9A62-16C49FB7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E11-4565-484E-8EEF-57F333EB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52C-976C-41F1-A2FC-430FFAFF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97D-9B82-469C-84FA-E227A0D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2490-33DD-493F-AB51-456A0D40596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60AE-AE1E-4446-9DCF-0232CE2D795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Linear Relations Day 1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7, 2009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Greg Clarke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9000" y="358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760" y="1249200"/>
            <a:ext cx="836604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Develop an Understanding of how the Big Ideas from Patterning to Algebraic Reasoning connect to Linea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Develop an Understanding of the Big Ideas that are unique to Linear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Connect the Mathematical Processes to the Big Ide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Provide Differentiated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Use Literacy Strate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Effective Use of Technology and Manipu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Questioning to Evoke and Expos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Build a Math-Talk Learning Community                                  (fearless speaking and list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199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Provide Assessment for Learn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4935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Meet and Greet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39800" y="1652760"/>
            <a:ext cx="78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 strategy                                                             you have used or would like to use                                  in the first week of class                                                   to help students feel comfortable with sharing and talking about mathematics in your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Big Ideas from Patterning to Algebraic Reaso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(e.g., predicting) generalized mathematical relationships and change using words and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presentations of relationships (e.g. numeric, graphic, geometric, algebraic)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, but not always, allow us to predict other information about tha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Big Ideas for Linear Func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functions are mathematical descriptions of relationships that change at a steady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wo pieces of information (e.g. 2 points, slope and a point) are needed to uniquely define a linear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92320" y="1724040"/>
            <a:ext cx="6610320" cy="5133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00" y="9237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  <a:ea typeface="Arial"/>
              </a:rPr>
              <a:t>Which Link to the Big Ideas for Linear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0200" y="426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1066800">
            <a:off x="712440" y="3920760"/>
            <a:ext cx="1936800" cy="2541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7200" y="1398600"/>
            <a:ext cx="51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question, identify the      Big Idea that it is associated with,     and post on chart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89520" y="1309680"/>
            <a:ext cx="2836800" cy="4270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6560" y="2798640"/>
            <a:ext cx="41263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ready to defend the highligh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6200" y="884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How do the overall expectations link to the Big Idea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20886600">
            <a:off x="4859280" y="2519280"/>
            <a:ext cx="206856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995400">
            <a:off x="6575040" y="3773160"/>
            <a:ext cx="1851120" cy="24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255420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1: Identify a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4200" y="3711600"/>
            <a:ext cx="377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2:  Select or Creat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s on Ques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your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09-08-05T12:10:42Z</dcterms:modified>
  <cp:revision>94</cp:revision>
  <dc:subject/>
  <dc:title>Slide 1</dc:title>
</cp:coreProperties>
</file>